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1B41B-FAFD-4DF9-ADEC-BCFEE350F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46C53-98FA-4113-9A5D-51C6B6D7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A5962-5AD5-4AE3-902A-5B957C1AB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7D43-4DD9-4FC9-99EE-771D94CF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F6DB-1204-4BD3-9091-B4A7BD1E8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44F64-A26A-4CEE-8191-675EA09D8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DAD5-6790-41A5-8AAF-9AFD7E86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BC945-414B-4057-AF91-746F875B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6859-F2E2-4577-8221-21DEDBB46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4272-F326-4E20-BAA1-C6D413E0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3ACF-C395-4758-8C6A-4B09B1EF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E8BE-BEBA-47A0-A9AC-88EB9C469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0DBA-2AF1-4F98-AC1A-D09176F4E1D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luvial Processe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Erosion, Transportation, And Depo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Processes Overview</a:t>
            </a:r>
            <a:endParaRPr b="0" lang="en-US" sz="4400" spc="-1" strike="noStrike">
              <a:solidFill>
                <a:srgbClr val="000000"/>
              </a:solidFill>
              <a:latin typeface="Calibri"/>
            </a:endParaRPr>
          </a:p>
        </p:txBody>
      </p:sp>
      <p:graphicFrame>
        <p:nvGraphicFramePr>
          <p:cNvPr id="60" name=""/>
          <p:cNvGraphicFramePr/>
          <p:nvPr/>
        </p:nvGraphicFramePr>
        <p:xfrm>
          <a:off x="457200" y="1600200"/>
          <a:ext cx="8229600" cy="41194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Upper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Middle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Lower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1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rosion And Deposi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ily vertical erosion, through attrition, abrasion and hydraulic action. Large boulders deposited and eroded in sit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s to cut vertically, but it also begins to cut laterally as it gets closer to base level. Deposition occurs in the slower moving insides of mean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ily cuts laterally as it has almost reached base level. The erosive energy of the river is almost totally concentrated on cutting sideways. Much deposition occu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por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ction and sal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altation, suspension and solu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Mainly suspension and solu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Erosion: From The Source</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iver itself, however, will try to erode in different directions, depending on how far down the course you a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basically, rivers are trying to erode down to their base lev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ost cases this is sea level, but it can also be the level of a lake that the river might be flowing in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top of the river, near its source, the river has a huge amount of material to get through to reach base level, so it primarily cuts downwards, creating a </a:t>
            </a:r>
            <a:r>
              <a:rPr b="1" lang="en-US" sz="2800" spc="-1" strike="noStrike">
                <a:solidFill>
                  <a:srgbClr val="000000"/>
                </a:solidFill>
                <a:latin typeface="Calibri"/>
              </a:rPr>
              <a:t>steep-sided v-shaped vall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Fluvial Erosion: The Middle/Lower Course</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t>
            </a:r>
            <a:r>
              <a:rPr b="1" lang="en-US" sz="3200" spc="-1" strike="noStrike">
                <a:solidFill>
                  <a:srgbClr val="000000"/>
                </a:solidFill>
                <a:latin typeface="Calibri"/>
              </a:rPr>
              <a:t>mid-course</a:t>
            </a:r>
            <a:r>
              <a:rPr b="0" lang="en-US" sz="3200" spc="-1" strike="noStrike">
                <a:solidFill>
                  <a:srgbClr val="000000"/>
                </a:solidFill>
                <a:latin typeface="Calibri"/>
              </a:rPr>
              <a:t> of the river it continues to cut downwards but is also starting to cut sideways or later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it has reached the lower course, and is nearing the sea, the river has almost reached its base level, so most of its erosive energy is concentrated on cutting laterally, creating features such as mean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in Processes Of Fluvial Erosion</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brasion:</a:t>
            </a:r>
            <a:r>
              <a:rPr b="0" lang="en-US" sz="2400" spc="-1" strike="noStrike">
                <a:solidFill>
                  <a:srgbClr val="000000"/>
                </a:solidFill>
                <a:latin typeface="Calibri"/>
              </a:rPr>
              <a:t> The erosion of the river bottom and the riverbank by material being carried by the river itsel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ttrition:</a:t>
            </a:r>
            <a:r>
              <a:rPr b="0" lang="en-US" sz="2400" spc="-1" strike="noStrike">
                <a:solidFill>
                  <a:srgbClr val="000000"/>
                </a:solidFill>
                <a:latin typeface="Calibri"/>
              </a:rPr>
              <a:t> The rocks and pebbles being carried by the river crash against each other, wearing them down to become smaller, rounded pebb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rrasion:</a:t>
            </a:r>
            <a:r>
              <a:rPr b="0" lang="en-US" sz="2400" spc="-1" strike="noStrike">
                <a:solidFill>
                  <a:srgbClr val="000000"/>
                </a:solidFill>
                <a:latin typeface="Calibri"/>
              </a:rPr>
              <a:t> see Attr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rrosion:</a:t>
            </a:r>
            <a:r>
              <a:rPr b="0" lang="en-US" sz="2400" spc="-1" strike="noStrike">
                <a:solidFill>
                  <a:srgbClr val="000000"/>
                </a:solidFill>
                <a:latin typeface="Calibri"/>
              </a:rPr>
              <a:t> The chemical erosion of the rocks of the riverbank by the slightly acidic water. This occurs in streams running through rocks such as chalk and limest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Hydraulic Action:</a:t>
            </a:r>
            <a:r>
              <a:rPr b="0" lang="en-US" sz="2400" spc="-1" strike="noStrike">
                <a:solidFill>
                  <a:srgbClr val="000000"/>
                </a:solidFill>
                <a:latin typeface="Calibri"/>
              </a:rPr>
              <a:t> The water forces air to be trapped and pressured into cracks in the rocks on the bank of the river. This constant pressure eventually causes the rocks to crack and break apa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it has been eroded, material in the river is transported down the 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st this is happening, erosion processes such as attrition and abrasion continue to occ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Traction:</a:t>
            </a:r>
            <a:r>
              <a:rPr b="0" lang="en-US" sz="2500" spc="-1" strike="noStrike">
                <a:solidFill>
                  <a:srgbClr val="000000"/>
                </a:solidFill>
                <a:latin typeface="Calibri"/>
              </a:rPr>
              <a:t> The largest rocks in the river are slowly rolled along the bottom of the river by the force of the water. This primarily occurs in the upper reaches of the riv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altation:</a:t>
            </a:r>
            <a:r>
              <a:rPr b="0" lang="en-US" sz="2500" spc="-1" strike="noStrike">
                <a:solidFill>
                  <a:srgbClr val="000000"/>
                </a:solidFill>
                <a:latin typeface="Calibri"/>
              </a:rPr>
              <a:t> Smaller rocks are bounced along the river bed. This occurs in the upper and middle sections of the river in genera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uspension:</a:t>
            </a:r>
            <a:r>
              <a:rPr b="0" lang="en-US" sz="2500" spc="-1" strike="noStrike">
                <a:solidFill>
                  <a:srgbClr val="000000"/>
                </a:solidFill>
                <a:latin typeface="Calibri"/>
              </a:rPr>
              <a:t> The water carries smaller particles of material. This process occurs throughout the course of the river, but increases the closes you are to the mouth of the riv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olution:</a:t>
            </a:r>
            <a:r>
              <a:rPr b="0" lang="en-US" sz="2500" spc="-1" strike="noStrike">
                <a:solidFill>
                  <a:srgbClr val="000000"/>
                </a:solidFill>
                <a:latin typeface="Calibri"/>
              </a:rPr>
              <a:t> Material is dissolved within the water and carried along by it. Primarily this occurs in the middle and lower reaches of the riv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pic>
        <p:nvPicPr>
          <p:cNvPr id="54" name="Picture 2" descr="http://www.sln.org.uk/geography/schools/blythebridge/images/GCSERe6.jpg"/>
          <p:cNvPicPr/>
          <p:nvPr/>
        </p:nvPicPr>
        <p:blipFill>
          <a:blip r:embed="rId1"/>
          <a:stretch/>
        </p:blipFill>
        <p:spPr>
          <a:xfrm>
            <a:off x="250920" y="2133720"/>
            <a:ext cx="875988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Deposition</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uvial deposition</a:t>
            </a:r>
            <a:r>
              <a:rPr b="0" lang="en-US" sz="2600" spc="-1" strike="noStrike">
                <a:solidFill>
                  <a:srgbClr val="000000"/>
                </a:solidFill>
                <a:latin typeface="Calibri"/>
              </a:rPr>
              <a:t> occurs where the river losses energy and therefore cannot continue to carry the material it is transporting.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ould happen in an estuary when the river meets the sea and slows down, depositing its load, which may eventually lead to the formation of salt marshes or a delt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terial is also deposited further up the course of the river.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instance the slower moving water on the inside of a bend of a river will have less energy and therefore drop its load, helping to create a meand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Deposi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ajor depositional feature of a river is the flood plain, in its lower reach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made up of deposited sand and silt, which is known as </a:t>
            </a:r>
            <a:r>
              <a:rPr b="1" lang="en-US" sz="3200" spc="-1" strike="noStrike">
                <a:solidFill>
                  <a:srgbClr val="000000"/>
                </a:solidFill>
                <a:latin typeface="Calibri"/>
              </a:rPr>
              <a:t>alluviu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often very fertile and is the reason why many areas near rivers have large amounts of agricultural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8:41:36Z</dcterms:created>
  <dc:creator>Dell_02</dc:creator>
  <dc:description/>
  <dc:language>en-US</dc:language>
  <cp:lastModifiedBy>Dell_02</cp:lastModifiedBy>
  <dcterms:modified xsi:type="dcterms:W3CDTF">2011-01-26T18:58:24Z</dcterms:modified>
  <cp:revision>2</cp:revision>
  <dc:subject/>
  <dc:title>Fluvial Processes</dc:title>
</cp:coreProperties>
</file>